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DD8A-2367-4611-8D16-402C69C79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1292-5633-4557-A5AC-8F04C1F4B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DA1-6E17-4061-A55F-CFCDAE89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B12-8944-4E86-BB41-905F9B40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372-2BA9-42FB-8FAC-B865442B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254-2043-49F0-8D03-D315FDE0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A9F-82BB-4948-AFFD-B9E1CA67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464-ECEE-48E5-8454-DB3251DE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B5F-630A-4ED4-9BA6-8EB1586F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11E-DEBF-4170-B427-2A268173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585-2323-4C2A-9281-794B902B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63C0-6A5C-471F-8522-F01E5D66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673-8E01-45EE-AF9F-D9E655CE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F4E-0BAF-4540-BD22-940E17CF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596E-5B73-46A3-9A24-14A222983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Katelynn Dudle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971800" y="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ol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eek city-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imagesCA3YK6GP.jpg"/>
          <p:cNvPicPr/>
          <p:nvPr/>
        </p:nvPicPr>
        <p:blipFill>
          <a:blip r:embed="rId1"/>
          <a:stretch/>
        </p:blipFill>
        <p:spPr>
          <a:xfrm>
            <a:off x="990720" y="2743200"/>
            <a:ext cx="68580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2362320" y="609480"/>
            <a:ext cx="51814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hilosophy</a:t>
            </a:r>
            <a:br>
              <a:rPr sz="6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udy of wisdom and the right way to l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imagesCALPMUA0.jpg"/>
          <p:cNvPicPr/>
          <p:nvPr/>
        </p:nvPicPr>
        <p:blipFill>
          <a:blip r:embed="rId1"/>
          <a:stretch/>
        </p:blipFill>
        <p:spPr>
          <a:xfrm>
            <a:off x="228600" y="3200400"/>
            <a:ext cx="8607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762120" y="0"/>
            <a:ext cx="55623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ninsu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rea of land nearly surrounded by water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imagesCA28FNEP.jpg"/>
          <p:cNvPicPr/>
          <p:nvPr/>
        </p:nvPicPr>
        <p:blipFill>
          <a:blip r:embed="rId1"/>
          <a:srcRect l="0" t="0" r="90" b="7955"/>
          <a:stretch/>
        </p:blipFill>
        <p:spPr>
          <a:xfrm>
            <a:off x="1676520" y="2743200"/>
            <a:ext cx="5715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2"/>
          <p:cNvSpPr/>
          <p:nvPr/>
        </p:nvSpPr>
        <p:spPr>
          <a:xfrm>
            <a:off x="609480" y="0"/>
            <a:ext cx="77724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loponnesian w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r between Athens and Spa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imagesCA2JQPL4.jpg"/>
          <p:cNvPicPr/>
          <p:nvPr/>
        </p:nvPicPr>
        <p:blipFill>
          <a:blip r:embed="rId1"/>
          <a:stretch/>
        </p:blipFill>
        <p:spPr>
          <a:xfrm>
            <a:off x="1828800" y="2209680"/>
            <a:ext cx="585792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685800" y="533520"/>
            <a:ext cx="76201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ligarch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magesCAZ2W6EJ.jpg"/>
          <p:cNvPicPr/>
          <p:nvPr/>
        </p:nvPicPr>
        <p:blipFill>
          <a:blip r:embed="rId1"/>
          <a:stretch/>
        </p:blipFill>
        <p:spPr>
          <a:xfrm>
            <a:off x="2286000" y="2743200"/>
            <a:ext cx="47242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imagesCALPMUA0.jpg"/>
          <p:cNvPicPr/>
          <p:nvPr/>
        </p:nvPicPr>
        <p:blipFill>
          <a:blip r:embed="rId1"/>
          <a:stretch/>
        </p:blipFill>
        <p:spPr>
          <a:xfrm>
            <a:off x="2139840" y="2475000"/>
            <a:ext cx="6139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imagesCA7N6XPI.jpg"/>
          <p:cNvPicPr/>
          <p:nvPr/>
        </p:nvPicPr>
        <p:blipFill>
          <a:blip r:embed="rId1"/>
          <a:srcRect l="0" t="0" r="0" b="7690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819520" y="228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emb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0" y="9144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wmaking place where people  vote on issues that helped their cit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untitled.bmp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666880" y="60948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iz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981080" y="13716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erson who has ascertain rights and  responsibilities to his or her coun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imagesCAHEN0ES.jpg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 rot="19716000">
            <a:off x="52920" y="465480"/>
            <a:ext cx="200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imagesCAD993LP.jpg"/>
          <p:cNvPicPr/>
          <p:nvPr/>
        </p:nvPicPr>
        <p:blipFill>
          <a:blip r:embed="rId1"/>
          <a:stretch/>
        </p:blipFill>
        <p:spPr>
          <a:xfrm rot="306000">
            <a:off x="630000" y="2905200"/>
            <a:ext cx="2743200" cy="353196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2819520" y="9907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ope of people who lived apart from Greece but kept economic ties with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1" descr=""/>
          <p:cNvPicPr/>
          <p:nvPr/>
        </p:nvPicPr>
        <p:blipFill>
          <a:blip r:embed="rId1"/>
          <a:stretch/>
        </p:blipFill>
        <p:spPr>
          <a:xfrm>
            <a:off x="2146320" y="208080"/>
            <a:ext cx="4718160" cy="1103040"/>
          </a:xfrm>
          <a:prstGeom prst="rect">
            <a:avLst/>
          </a:prstGeom>
          <a:ln w="0">
            <a:noFill/>
          </a:ln>
        </p:spPr>
      </p:pic>
      <p:sp>
        <p:nvSpPr>
          <p:cNvPr id="66" name="Vertical Scroll 2"/>
          <p:cNvSpPr/>
          <p:nvPr/>
        </p:nvSpPr>
        <p:spPr>
          <a:xfrm>
            <a:off x="1600200" y="0"/>
            <a:ext cx="5791320" cy="297180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2057400" y="16765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m of government where people vote to make deci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imagesCALZPNKR.jpg"/>
          <p:cNvPicPr/>
          <p:nvPr/>
        </p:nvPicPr>
        <p:blipFill>
          <a:blip r:embed="rId2"/>
          <a:stretch/>
        </p:blipFill>
        <p:spPr>
          <a:xfrm>
            <a:off x="2438280" y="3809880"/>
            <a:ext cx="487692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0" y="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Jur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2438280" y="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ear evidence and make decisions in court of l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imagesCATM94CA.jpg"/>
          <p:cNvPicPr/>
          <p:nvPr/>
        </p:nvPicPr>
        <p:blipFill>
          <a:blip r:embed="rId1"/>
          <a:stretch/>
        </p:blipFill>
        <p:spPr>
          <a:xfrm>
            <a:off x="1143000" y="2895480"/>
            <a:ext cx="6361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Rectangle 1" descr=""/>
          <p:cNvPicPr/>
          <p:nvPr/>
        </p:nvPicPr>
        <p:blipFill>
          <a:blip r:embed="rId1"/>
          <a:stretch/>
        </p:blipFill>
        <p:spPr>
          <a:xfrm>
            <a:off x="-291960" y="-171360"/>
            <a:ext cx="4260600" cy="109836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3581280" y="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headed by one ru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imagesCAD82ASX.jpg"/>
          <p:cNvPicPr/>
          <p:nvPr/>
        </p:nvPicPr>
        <p:blipFill>
          <a:blip r:embed="rId2"/>
          <a:stretch/>
        </p:blipFill>
        <p:spPr>
          <a:xfrm>
            <a:off x="2057400" y="2286000"/>
            <a:ext cx="40100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4:36:08Z</dcterms:modified>
  <cp:revision>100</cp:revision>
  <dc:subject/>
  <dc:title>Ancient Greece</dc:title>
</cp:coreProperties>
</file>